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31.xml" ContentType="application/vnd.openxmlformats-officedocument.theme+xml"/>
  <Override PartName="/ppt/theme/theme43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2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notesMasterIdLst>
    <p:notesMasterId r:id="rId44"/>
  </p:notesMasterIdLst>
  <p:sldIdLst>
    <p:sldId id="256" r:id="rId45"/>
    <p:sldId id="257" r:id="rId46"/>
    <p:sldId id="258" r:id="rId47"/>
    <p:sldId id="259" r:id="rId48"/>
    <p:sldId id="260" r:id="rId49"/>
    <p:sldId id="261" r:id="rId50"/>
    <p:sldId id="262" r:id="rId51"/>
    <p:sldId id="263" r:id="rId52"/>
    <p:sldId id="264" r:id="rId53"/>
    <p:sldId id="265" r:id="rId54"/>
    <p:sldId id="266" r:id="rId55"/>
    <p:sldId id="267" r:id="rId56"/>
    <p:sldId id="268" r:id="rId57"/>
    <p:sldId id="269" r:id="rId58"/>
    <p:sldId id="270" r:id="rId59"/>
    <p:sldId id="271" r:id="rId60"/>
    <p:sldId id="272" r:id="rId61"/>
    <p:sldId id="273" r:id="rId62"/>
    <p:sldId id="274" r:id="rId6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notesMaster" Target="notesMasters/notesMaster1.xml"/><Relationship Id="rId45" Type="http://schemas.openxmlformats.org/officeDocument/2006/relationships/slide" Target="slides/slide1.xml"/><Relationship Id="rId46" Type="http://schemas.openxmlformats.org/officeDocument/2006/relationships/slide" Target="slides/slide2.xml"/><Relationship Id="rId47" Type="http://schemas.openxmlformats.org/officeDocument/2006/relationships/slide" Target="slides/slide3.xml"/><Relationship Id="rId48" Type="http://schemas.openxmlformats.org/officeDocument/2006/relationships/slide" Target="slides/slide4.xml"/><Relationship Id="rId49" Type="http://schemas.openxmlformats.org/officeDocument/2006/relationships/slide" Target="slides/slide5.xml"/><Relationship Id="rId50" Type="http://schemas.openxmlformats.org/officeDocument/2006/relationships/slide" Target="slides/slide6.xml"/><Relationship Id="rId51" Type="http://schemas.openxmlformats.org/officeDocument/2006/relationships/slide" Target="slides/slide7.xml"/><Relationship Id="rId52" Type="http://schemas.openxmlformats.org/officeDocument/2006/relationships/slide" Target="slides/slide8.xml"/><Relationship Id="rId53" Type="http://schemas.openxmlformats.org/officeDocument/2006/relationships/slide" Target="slides/slide9.xml"/><Relationship Id="rId54" Type="http://schemas.openxmlformats.org/officeDocument/2006/relationships/slide" Target="slides/slide10.xml"/><Relationship Id="rId55" Type="http://schemas.openxmlformats.org/officeDocument/2006/relationships/slide" Target="slides/slide11.xml"/><Relationship Id="rId56" Type="http://schemas.openxmlformats.org/officeDocument/2006/relationships/slide" Target="slides/slide12.xml"/><Relationship Id="rId57" Type="http://schemas.openxmlformats.org/officeDocument/2006/relationships/slide" Target="slides/slide13.xml"/><Relationship Id="rId58" Type="http://schemas.openxmlformats.org/officeDocument/2006/relationships/slide" Target="slides/slide14.xml"/><Relationship Id="rId59" Type="http://schemas.openxmlformats.org/officeDocument/2006/relationships/slide" Target="slides/slide15.xml"/><Relationship Id="rId60" Type="http://schemas.openxmlformats.org/officeDocument/2006/relationships/slide" Target="slides/slide16.xml"/><Relationship Id="rId61" Type="http://schemas.openxmlformats.org/officeDocument/2006/relationships/slide" Target="slides/slide17.xml"/><Relationship Id="rId62" Type="http://schemas.openxmlformats.org/officeDocument/2006/relationships/slide" Target="slides/slide18.xml"/><Relationship Id="rId63" Type="http://schemas.openxmlformats.org/officeDocument/2006/relationships/slide" Target="slides/slide1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954DA-99B0-4D6E-A4BD-6CC298F07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CF444-8959-4869-876B-3232DF6D6083}" type="slidenum">
              <a:rPr b="0" lang="en-US" sz="1200" spc="-1" strike="noStrike">
                <a:solidFill>
                  <a:srgbClr val="314b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Verwijzing naar cirkels + uitleg ‘verloren energie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640A4-F77E-4893-B872-E38CA39C6549}" type="slidenum">
              <a:rPr b="0" lang="en-US" sz="1200" spc="-1" strike="noStrike">
                <a:solidFill>
                  <a:srgbClr val="314b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Cijfers toevoegen per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17978-C280-4599-96A8-F16B89B10D4C}" type="slidenum">
              <a:rPr b="0" lang="en-US" sz="1200" spc="-1" strike="noStrike">
                <a:solidFill>
                  <a:srgbClr val="314b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C10A2-5259-4EC8-8038-B2108A0915E5}" type="slidenum">
              <a:rPr b="0" lang="en-US" sz="1200" spc="-1" strike="noStrike">
                <a:solidFill>
                  <a:srgbClr val="314b5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uitleg fight/flight/freeze en link naar stresssigna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BFCA5-FF44-4EAB-9311-0EB935294D96}" type="slidenum">
              <a:rPr b="0" lang="en-US" sz="1200" spc="-1" strike="noStrike">
                <a:solidFill>
                  <a:srgbClr val="314b5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FDE8-2795-473D-8D90-9A7BBF1C2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18BE-300B-4573-96DD-B0B9D817C6C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B796-07EC-4863-B325-FF32E50034E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96A0-4A14-42D7-8069-885A3CB619F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EBDF-01D5-464D-82A5-910FFB5C1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B68D-D293-4D5F-A764-51FE8CD56C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390E-EBE0-42DB-B3C3-113334AD815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1657-7D07-4856-A45F-8DF1F259D719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B608-B399-4F85-918E-6EFDFFBA2103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E6E4-C4DD-4CE2-A4C0-6EE914401A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1EF8-7ACE-4155-9052-89BA9D936B00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80C9-8223-443C-AAE3-07DF000820C9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A104-B6E7-418A-B8FD-8A27202F3968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6E98-872E-4FF9-B5BD-5000146ACB10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D890-E888-43C6-A402-654CBCB23C62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7F85-62F4-4A58-96CF-573741EF82EC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E0E8-916A-4307-8ECD-95157FD10CF3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2B93-AE6E-44E2-A8F4-34609F6B5B2F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BB867-B318-4895-A826-A07436A1D469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AF7-5D3C-41B7-BE63-65CA45279CF4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13D9-8C83-4720-B8AF-B3CAAED3C6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244-ED58-4470-A9F8-BBEF22C3D939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89A-C342-42AC-BB43-1961E36673C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176-C4A6-430B-9B5B-7EFE7E00E74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319-D014-4685-8A5A-5A946020268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208-BF5C-43AA-94C8-CB51B20931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296-0F07-446D-8200-565D1BE6169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24E-8A4B-4783-99A8-46DC7EB6C2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171-DCE5-425B-B931-37CC3559D38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CA2-365D-4928-BEC0-E765C7CC41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CFD-BE79-4F24-A83E-3979F7D44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E7B8-5489-4D48-9358-A41C42775E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F95-D3D1-4AA7-8A22-233F7A3F564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0F42-78D0-497C-BF75-1F2640E5FE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4817-6859-4D9F-A8FE-AE573DAB2DB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8352-8274-4C4C-B9C9-EE39FC3C791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38720" y="5297040"/>
            <a:ext cx="4665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91bea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1330A-1FCB-45C5-89E7-12D4D792603E}" type="slidenum">
              <a:rPr b="0" lang="en-US" sz="600" spc="-1" strike="noStrike">
                <a:solidFill>
                  <a:srgbClr val="91bea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7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6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hthoek 3"/>
          <p:cNvSpPr/>
          <p:nvPr/>
        </p:nvSpPr>
        <p:spPr>
          <a:xfrm>
            <a:off x="522360" y="1477800"/>
            <a:ext cx="3537000" cy="314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pic>
        <p:nvPicPr>
          <p:cNvPr id="779" name="Picture 8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7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hthoek 3"/>
          <p:cNvSpPr/>
          <p:nvPr/>
        </p:nvSpPr>
        <p:spPr>
          <a:xfrm>
            <a:off x="522360" y="1477800"/>
            <a:ext cx="8101080" cy="3179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pic>
        <p:nvPicPr>
          <p:cNvPr id="858" name="Picture 7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7354800" cy="5715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246" name="Rechthoek 4"/>
          <p:cNvSpPr/>
          <p:nvPr/>
        </p:nvSpPr>
        <p:spPr>
          <a:xfrm>
            <a:off x="2292480" y="2399760"/>
            <a:ext cx="4572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7842a4"/>
                </a:solidFill>
                <a:latin typeface="Arial Black"/>
              </a:rPr>
              <a:t>Vragen of</a:t>
            </a:r>
            <a:br>
              <a:rPr sz="2800"/>
            </a:br>
            <a:r>
              <a:rPr b="0" lang="nl-NL" sz="2800" spc="-1" strike="noStrike">
                <a:solidFill>
                  <a:srgbClr val="7842a4"/>
                </a:solidFill>
                <a:latin typeface="Arial Black"/>
              </a:rPr>
              <a:t>opmerkingen?</a:t>
            </a:r>
            <a:endParaRPr b="0" lang="en-US" sz="2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99-end-white.png"/>
          <p:cNvPicPr/>
          <p:nvPr/>
        </p:nvPicPr>
        <p:blipFill>
          <a:blip r:embed="rId3"/>
          <a:srcRect l="1237" t="0" r="0" b="0"/>
          <a:stretch/>
        </p:blipFill>
        <p:spPr>
          <a:xfrm>
            <a:off x="0" y="409680"/>
            <a:ext cx="7818480" cy="4824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2"/>
          </p:nvPr>
        </p:nvSpPr>
        <p:spPr>
          <a:xfrm>
            <a:off x="4338720" y="5297040"/>
            <a:ext cx="4665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91bea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07704-2771-479E-A027-AFEC78EDF91B}" type="slidenum">
              <a:rPr b="0" lang="en-US" sz="600" spc="-1" strike="noStrike">
                <a:solidFill>
                  <a:srgbClr val="91bea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4338720" y="5297040"/>
            <a:ext cx="4665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91bea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77947-E8D2-416C-95AE-57A541592FC5}" type="slidenum">
              <a:rPr b="0" lang="en-US" sz="600" spc="-1" strike="noStrike">
                <a:solidFill>
                  <a:srgbClr val="91bea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erk.belgie.be/moduledefault.aspx?id=33630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1552320" y="2900160"/>
            <a:ext cx="477972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ts val="2336"/>
              </a:lnSpc>
              <a:spcBef>
                <a:spcPts val="57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Black"/>
                <a:ea typeface="Aleo"/>
              </a:rPr>
              <a:t>Hoe gaan we om met onze energie?</a:t>
            </a:r>
            <a:endParaRPr b="0" lang="en-US" sz="23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552320" y="2084040"/>
            <a:ext cx="4779720" cy="5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nl-BE" sz="3100" spc="-1" strike="noStrike">
                <a:solidFill>
                  <a:srgbClr val="ffffff"/>
                </a:solidFill>
                <a:latin typeface="Arial Black"/>
              </a:rPr>
              <a:t>Stress en Burn-out”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3200" spc="-1" strike="noStrike">
                <a:solidFill>
                  <a:srgbClr val="7842a4"/>
                </a:solidFill>
                <a:latin typeface="Aleo"/>
                <a:ea typeface="Aleo"/>
              </a:rPr>
              <a:t>Stressbeleving</a:t>
            </a:r>
            <a:endParaRPr b="0" lang="en-US" sz="32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520560" y="-6840"/>
            <a:ext cx="72835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Hoe stress voorkomen en aanpakken?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Black"/>
              </a:rPr>
              <a:t>Balans</a:t>
            </a:r>
            <a:r>
              <a:rPr b="0" lang="nl-BE" sz="2400" spc="-1" strike="noStrike">
                <a:solidFill>
                  <a:srgbClr val="000000"/>
                </a:solidFill>
                <a:latin typeface="Arial Black"/>
              </a:rPr>
              <a:t> in evenwicht brengen door: </a:t>
            </a:r>
            <a:endParaRPr b="0" lang="en-US" sz="24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Veerkracht en weerbaarheid te verhogen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EN/OF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Stresserende situaties/oorzaken aan te pakke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Zowel preventief als curatief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Oorzaken van stress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Stress beheers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 Black"/>
              </a:rPr>
              <a:t>Eerste stap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nl-BE" sz="1700" spc="-1" strike="noStrike">
                <a:solidFill>
                  <a:srgbClr val="000000"/>
                </a:solidFill>
                <a:latin typeface="Arial"/>
              </a:rPr>
              <a:t>In kaart brengen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van stressfactoren/oorzaken :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-&gt; waar heb ik impact op? Wat is er veranderbaar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-&gt; waar heb ik geen impact op? Wat is niet veranderbaar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Coping/hantering hierop afstemmen!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Stressbeheersing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Stress beheers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456840" y="1195200"/>
            <a:ext cx="4048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70c0"/>
                </a:solidFill>
                <a:latin typeface="Arial Black"/>
              </a:rPr>
              <a:t>VERANDERBAAR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</a:t>
            </a:r>
            <a:r>
              <a:rPr b="0" lang="nl-BE" sz="1700" spc="-1" strike="noStrike" u="sng">
                <a:solidFill>
                  <a:srgbClr val="000000"/>
                </a:solidFill>
                <a:uFillTx/>
                <a:latin typeface="Arial Black"/>
              </a:rPr>
              <a:t>Oplossingsgerichte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stressbeheersing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Actief aanpakken van stressbronnen /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oorzaken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1700" spc="-1" strike="noStrike">
              <a:solidFill>
                <a:srgbClr val="6aa193"/>
              </a:solidFill>
              <a:latin typeface="Arial Black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4642920" y="1195200"/>
            <a:ext cx="4048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ff0000"/>
                </a:solidFill>
                <a:latin typeface="Arial Black"/>
              </a:rPr>
              <a:t>NIET VERANDERBAAR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</a:t>
            </a:r>
            <a:r>
              <a:rPr b="0" lang="nl-BE" sz="1700" spc="-1" strike="noStrike" u="sng">
                <a:solidFill>
                  <a:srgbClr val="000000"/>
                </a:solidFill>
                <a:uFillTx/>
                <a:latin typeface="Arial Black"/>
              </a:rPr>
              <a:t>Emotiegerichte 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stressbeheersing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Omgaan met stressbronnen die ik niet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kan veranderen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Aan de slag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Aan de sla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-&gt; welk actiepunt (oplossingsgericht of emotiegericht) neem jij de volgende maanden op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Maak een actieplan op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at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anneer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at heb ik ervoor nodi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e ga ik dit evalueren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af87cf"/>
                </a:solidFill>
                <a:latin typeface="Arial Black"/>
              </a:rPr>
              <a:t>Eigen</a:t>
            </a:r>
            <a:r>
              <a:rPr b="0" lang="nl-BE" sz="1700" spc="-1" strike="noStrike">
                <a:solidFill>
                  <a:srgbClr val="c9afdf"/>
                </a:solidFill>
                <a:latin typeface="Arial Black"/>
              </a:rPr>
              <a:t> </a:t>
            </a:r>
            <a:r>
              <a:rPr b="0" lang="nl-BE" sz="1700" spc="-1" strike="noStrike">
                <a:solidFill>
                  <a:srgbClr val="af87cf"/>
                </a:solidFill>
                <a:latin typeface="Arial Black"/>
              </a:rPr>
              <a:t>actiepla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98040" y="181116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Vragen?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/>
          </p:nvPr>
        </p:nvSpPr>
        <p:spPr>
          <a:xfrm>
            <a:off x="522000" y="1447560"/>
            <a:ext cx="810108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Team We Care for You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Vertrouwenspersoo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Liantis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Arbeidsarts: 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Team psychosociaal welzijn: 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</a:rPr>
              <a:t>Contactgegevens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6840" y="88560"/>
            <a:ext cx="823428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Inhoudstafel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456840" y="825120"/>
            <a:ext cx="823428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Inleid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Inzicht in het fenomeen stress, burn-ou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Stressbelev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Oorzaken van stress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Stressbeheers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761760" y="179532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Inleiding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Inleid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2017: Tevredenheidsenquête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=&gt; Over het algemeen veel stress, maar wel sterk afhankelijk van afdeling tot afdeling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Inzetten op preventie en aanpak van stress en BO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(2019: We Care For You)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Voorjaar 2018: sessies leidinggevende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Najaar 2018 + 2019: sessies per team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20440" y="213984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Inzicht in het fenomeen stress/burn-out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/>
          </p:nvPr>
        </p:nvSpPr>
        <p:spPr>
          <a:xfrm>
            <a:off x="522000" y="1447560"/>
            <a:ext cx="810108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Hoe merk je stress op bij jezelf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Welke stresssignalen zie je soms bij anderen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</a:rPr>
              <a:t>Stresssignal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Stress en burn-ou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456840" y="4684680"/>
            <a:ext cx="823428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1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Bron: Onderzoek naar burnout bij de Belgische beroepsbevolking: samenvatting van het eindverslag (</a:t>
            </a:r>
            <a:r>
              <a:rPr b="0" lang="nl-BE" sz="1100" spc="-1" strike="noStrike" u="sng">
                <a:solidFill>
                  <a:srgbClr val="86878a"/>
                </a:solidFill>
                <a:uFillTx/>
                <a:latin typeface="Arial Black"/>
                <a:ea typeface="ＭＳ Ｐゴシック"/>
                <a:hlinkClick r:id="rId1"/>
              </a:rPr>
              <a:t>http://www.werk.belgie.be/moduledefault.aspx?id=33630</a:t>
            </a:r>
            <a:r>
              <a:rPr b="0" lang="nl-BE" sz="11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, 2015)</a:t>
            </a:r>
            <a:endParaRPr b="0" lang="en-US" sz="1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af87cf"/>
                </a:solidFill>
                <a:latin typeface="Arial Black"/>
              </a:rPr>
              <a:t>Gevolgen voor het individu (evenals signalen)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pic>
        <p:nvPicPr>
          <p:cNvPr id="1653" name="Diagram 1" descr=""/>
          <p:cNvPicPr/>
          <p:nvPr/>
        </p:nvPicPr>
        <p:blipFill>
          <a:blip r:embed="rId2"/>
          <a:stretch/>
        </p:blipFill>
        <p:spPr>
          <a:xfrm>
            <a:off x="560520" y="822240"/>
            <a:ext cx="80038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Wat is stress?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5857920" y="2049480"/>
            <a:ext cx="2419200" cy="19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22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Draagkracht</a:t>
            </a:r>
            <a:endParaRPr b="0" lang="en-US" sz="22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= 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gelijkheden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rktes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e steun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1700" spc="-1" strike="noStrike">
              <a:solidFill>
                <a:srgbClr val="6aa193"/>
              </a:solidFill>
              <a:latin typeface="Arial Black"/>
              <a:ea typeface="ＭＳ Ｐゴシック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125640" y="2081160"/>
            <a:ext cx="2711160" cy="25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24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Draaglast</a:t>
            </a:r>
            <a:endParaRPr b="0" lang="en-US" sz="24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=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s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lvl="1" marL="51444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wach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Picture 2" descr=""/>
          <p:cNvPicPr/>
          <p:nvPr/>
        </p:nvPicPr>
        <p:blipFill>
          <a:blip r:embed="rId1"/>
          <a:stretch/>
        </p:blipFill>
        <p:spPr>
          <a:xfrm>
            <a:off x="2852640" y="1841400"/>
            <a:ext cx="2467080" cy="21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Wat is burn-out? 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522000" y="1221840"/>
            <a:ext cx="810108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 Black"/>
              </a:rPr>
              <a:t>= Energiestoornis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1700" spc="-1" strike="noStrike">
              <a:solidFill>
                <a:srgbClr val="fffea8"/>
              </a:solidFill>
              <a:latin typeface="Arial Black"/>
            </a:endParaRPr>
          </a:p>
        </p:txBody>
      </p:sp>
      <p:pic>
        <p:nvPicPr>
          <p:cNvPr id="1662" name="Picture 2" descr=""/>
          <p:cNvPicPr/>
          <p:nvPr/>
        </p:nvPicPr>
        <p:blipFill>
          <a:blip r:embed="rId1"/>
          <a:stretch/>
        </p:blipFill>
        <p:spPr>
          <a:xfrm>
            <a:off x="723960" y="1960560"/>
            <a:ext cx="769608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17:54:59Z</dcterms:created>
  <dc:creator>Andy Van Laer</dc:creator>
  <dc:description/>
  <dc:language>en-US</dc:language>
  <cp:lastModifiedBy>Nicolas Claus</cp:lastModifiedBy>
  <dcterms:modified xsi:type="dcterms:W3CDTF">2020-02-03T10:56:19Z</dcterms:modified>
  <cp:revision>367</cp:revision>
  <dc:subject/>
  <dc:title>ADMB PowerPoint The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F7F2909C47A14CBDA1A09A10F70626</vt:lpwstr>
  </property>
</Properties>
</file>